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52A-DE88-4A47-AEA2-4E495B99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A48-4329-4002-85FD-28E79F95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CC7-4FC0-477E-B82E-471AC554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F85-4672-4277-AF13-50C6B7C4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BE3-F2DF-4FE8-9BC7-1898F82A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F0C-9C1A-4AF2-BF97-34A6A8B6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A98-BFC0-4BC2-B67F-D84E90DF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D41-A2AD-4879-836C-8F3B6615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94A-992D-44C2-BBF8-3621D67C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E69-66D3-4915-86AB-657FD995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985-439D-4F6D-874A-5F19EE68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373-8500-40C4-BCF5-981D5163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48DE-584B-401C-B591-6983A7830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380880"/>
            <a:ext cx="6477120" cy="556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257800"/>
            <a:ext cx="58672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edthis Portable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49600" y="60199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edthis App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4267080"/>
            <a:ext cx="586728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Web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60020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241920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23856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i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4057560" y="533520"/>
            <a:ext cx="45720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i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4876560" y="2743200"/>
            <a:ext cx="50004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s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27432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4876560" y="533160"/>
            <a:ext cx="50004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5715000" y="533160"/>
            <a:ext cx="4572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6362640" y="533160"/>
            <a:ext cx="4572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7010280" y="533160"/>
            <a:ext cx="4572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sl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9:26:53Z</dcterms:created>
  <dc:creator>Michael O'Brien</dc:creator>
  <dc:description/>
  <dc:language>en-US</dc:language>
  <cp:lastModifiedBy>Michael O'Brien</cp:lastModifiedBy>
  <dcterms:modified xsi:type="dcterms:W3CDTF">2003-12-31T19:44:33Z</dcterms:modified>
  <cp:revision>2</cp:revision>
  <dc:subject/>
  <dc:title>Slide 1</dc:title>
</cp:coreProperties>
</file>